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3174-D266-4DFC-9E51-2742B856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15C8-A8A1-45EE-B19D-ADA464D4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3C3-BCA9-444D-AF1E-7293CD06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174E-9900-491B-BFE4-7A830C4F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744C-1983-4A8C-AF04-C5A9E8D0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3F6B-7FA3-41C8-B5D7-78C5689A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A688-EE9F-4C1C-A885-562FC7B4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356A-22EB-498F-972D-5DE83847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E213-EE52-4FF0-86BF-58B7348B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9FE1-C733-46A3-84C9-24FD2B28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7FC7-813F-4C0B-BCF4-6DB346BD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5092-4874-42A1-8F76-18E33212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EB3F-C986-43B5-A4A2-BB1B804B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9A14-31BA-4AD8-8CD8-E059B292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3CAA-19A9-4A30-863D-38C749CF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E91D-2700-4487-8D45-B70712DF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0CEB-58ED-46BC-850B-53CA08E5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2A2-CB0C-4EAB-98B7-4B3D62F0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9D0E-8FCB-40D0-B921-822CCB8F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A698-27C1-46FD-8A3F-CD134015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F5F-C1F1-4296-A8CE-A0C5187E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6FD2-9E5B-4E32-A809-841A9EDD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C10C-DB59-47D8-BD02-A0733DDE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13DD-B203-45D8-A9DE-BB2B03B2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Faceți clic pentru a edita stilul de titlu Coordon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B8958F-8E32-4703-9CD9-AE6AFE9094D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Faceți clic pentru a edita stilul de titlu Coordon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aceți clic pentru a edita stilurile de text Coordo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Al doilea ni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l treilea ni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Al patrulea ni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Al cincilea ni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5EDCCF-16BB-4B8D-B492-7BD01A29B7E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tps://www.netacad.com/group/training/welco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rcRect l="35737" t="30026" r="11522" b="21629"/>
          <a:stretch/>
        </p:blipFill>
        <p:spPr>
          <a:xfrm>
            <a:off x="12960" y="162000"/>
            <a:ext cx="9130680" cy="669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31054" t="24619" r="17167" b="26442"/>
          <a:stretch/>
        </p:blipFill>
        <p:spPr>
          <a:xfrm>
            <a:off x="-90000" y="0"/>
            <a:ext cx="8804880" cy="6657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26513" t="24619" r="15396" b="26442"/>
          <a:stretch/>
        </p:blipFill>
        <p:spPr>
          <a:xfrm>
            <a:off x="0" y="0"/>
            <a:ext cx="8533440" cy="6500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rcRect l="29294" t="24899" r="15623" b="25291"/>
          <a:stretch/>
        </p:blipFill>
        <p:spPr>
          <a:xfrm>
            <a:off x="0" y="0"/>
            <a:ext cx="8985960" cy="6500520"/>
          </a:xfrm>
          <a:prstGeom prst="rect">
            <a:avLst/>
          </a:prstGeom>
          <a:ln w="9525">
            <a:noFill/>
          </a:ln>
        </p:spPr>
      </p:pic>
      <p:sp>
        <p:nvSpPr>
          <p:cNvPr id="92" name="CasetăText 4"/>
          <p:cNvSpPr/>
          <p:nvPr/>
        </p:nvSpPr>
        <p:spPr>
          <a:xfrm>
            <a:off x="5643720" y="3429000"/>
            <a:ext cx="1142640" cy="369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asetăText 5"/>
          <p:cNvSpPr/>
          <p:nvPr/>
        </p:nvSpPr>
        <p:spPr>
          <a:xfrm>
            <a:off x="5357880" y="1714320"/>
            <a:ext cx="2214360" cy="369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rcRect l="25777" t="27096" r="19137" b="27487"/>
          <a:stretch/>
        </p:blipFill>
        <p:spPr>
          <a:xfrm>
            <a:off x="0" y="0"/>
            <a:ext cx="9097560" cy="6000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26005" t="27778" r="18428" b="23286"/>
          <a:stretch/>
        </p:blipFill>
        <p:spPr>
          <a:xfrm>
            <a:off x="0" y="-25920"/>
            <a:ext cx="9060840" cy="6383520"/>
          </a:xfrm>
          <a:prstGeom prst="rect">
            <a:avLst/>
          </a:prstGeom>
          <a:ln w="9525">
            <a:noFill/>
          </a:ln>
        </p:spPr>
      </p:pic>
      <p:sp>
        <p:nvSpPr>
          <p:cNvPr id="99" name="CasetăText 4"/>
          <p:cNvSpPr/>
          <p:nvPr/>
        </p:nvSpPr>
        <p:spPr>
          <a:xfrm>
            <a:off x="5500800" y="4643280"/>
            <a:ext cx="999720" cy="1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asetăText 5"/>
          <p:cNvSpPr/>
          <p:nvPr/>
        </p:nvSpPr>
        <p:spPr>
          <a:xfrm>
            <a:off x="5429160" y="3286080"/>
            <a:ext cx="1714320" cy="184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rcRect l="27268" t="27778" r="18428" b="23286"/>
          <a:stretch/>
        </p:blipFill>
        <p:spPr>
          <a:xfrm>
            <a:off x="0" y="0"/>
            <a:ext cx="9166680" cy="6608520"/>
          </a:xfrm>
          <a:prstGeom prst="rect">
            <a:avLst/>
          </a:prstGeom>
          <a:ln w="9525">
            <a:noFill/>
          </a:ln>
        </p:spPr>
      </p:pic>
      <p:sp>
        <p:nvSpPr>
          <p:cNvPr id="103" name="CasetăText 4"/>
          <p:cNvSpPr/>
          <p:nvPr/>
        </p:nvSpPr>
        <p:spPr>
          <a:xfrm>
            <a:off x="428760" y="4572000"/>
            <a:ext cx="1714320" cy="184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asetăText 5"/>
          <p:cNvSpPr/>
          <p:nvPr/>
        </p:nvSpPr>
        <p:spPr>
          <a:xfrm>
            <a:off x="5072040" y="4572000"/>
            <a:ext cx="1714320" cy="184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25370" t="27048" r="18655" b="23504"/>
          <a:stretch/>
        </p:blipFill>
        <p:spPr>
          <a:xfrm>
            <a:off x="-98280" y="285840"/>
            <a:ext cx="9027720" cy="6379560"/>
          </a:xfrm>
          <a:prstGeom prst="rect">
            <a:avLst/>
          </a:prstGeom>
          <a:ln w="9525">
            <a:noFill/>
          </a:ln>
        </p:spPr>
      </p:pic>
      <p:sp>
        <p:nvSpPr>
          <p:cNvPr id="108" name="CasetăText 4"/>
          <p:cNvSpPr/>
          <p:nvPr/>
        </p:nvSpPr>
        <p:spPr>
          <a:xfrm>
            <a:off x="928800" y="4786200"/>
            <a:ext cx="1714320" cy="24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asetăText 5"/>
          <p:cNvSpPr/>
          <p:nvPr/>
        </p:nvSpPr>
        <p:spPr>
          <a:xfrm>
            <a:off x="5429160" y="5857920"/>
            <a:ext cx="1714320" cy="24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asetăText 6"/>
          <p:cNvSpPr/>
          <p:nvPr/>
        </p:nvSpPr>
        <p:spPr>
          <a:xfrm>
            <a:off x="642960" y="3143160"/>
            <a:ext cx="2285640" cy="1843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asetăText 7"/>
          <p:cNvSpPr/>
          <p:nvPr/>
        </p:nvSpPr>
        <p:spPr>
          <a:xfrm>
            <a:off x="4929120" y="3071880"/>
            <a:ext cx="2285640" cy="25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asetăText 8"/>
          <p:cNvSpPr/>
          <p:nvPr/>
        </p:nvSpPr>
        <p:spPr>
          <a:xfrm>
            <a:off x="678600" y="4246920"/>
            <a:ext cx="499680" cy="253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setăText 9"/>
          <p:cNvSpPr/>
          <p:nvPr/>
        </p:nvSpPr>
        <p:spPr>
          <a:xfrm>
            <a:off x="5143680" y="5286240"/>
            <a:ext cx="428400" cy="28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26513" t="26830" r="19184" b="22655"/>
          <a:stretch/>
        </p:blipFill>
        <p:spPr>
          <a:xfrm>
            <a:off x="-500040" y="-91440"/>
            <a:ext cx="9338040" cy="6949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Temă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mă Offic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  <Words>3</Words>
  <Paragraphs>1</Paragraphs>
  <Company>Grizli777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5T20:12:19Z</dcterms:created>
  <dc:creator>User</dc:creator>
  <dc:description/>
  <dc:language>en-US</dc:language>
  <cp:lastModifiedBy>Iulia</cp:lastModifiedBy>
  <dcterms:modified xsi:type="dcterms:W3CDTF">2015-09-24T19:19:27Z</dcterms:modified>
  <cp:revision>4</cp:revision>
  <dc:subject/>
  <dc:title>https://www.netacad.com/group/training/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Expunere pe ecran (4:3)</vt:lpwstr>
  </property>
  <property fmtid="{D5CDD505-2E9C-101B-9397-08002B2CF9AE}" pid="3" name="Slides">
    <vt:r8>9</vt:r8>
  </property>
</Properties>
</file>